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9AE-CA71-498D-B305-DBDB9224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015-BF59-40C0-98A5-DD877B51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2BC-6E9E-4636-AC3B-34581712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696-6AE1-4772-82B4-7087B7CF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F1F-81A0-4016-B0E8-F8CFEAD0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465-A38C-4A01-BE1D-0C71E5BC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4AB-41A3-4F13-8F06-B2079A37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397-DCCD-49C3-866C-22B8D29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4DF-662C-4CCD-987B-CBFC72F0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AC4-EA27-43EA-BAD7-DEC6A161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AFB-8E34-47A9-BB67-48A0316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6B0-D785-479C-BADB-29CD77EC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0467-DE7F-41B6-8F11-81C19232829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98520" y="1557360"/>
            <a:ext cx="86025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4800" spc="-1" strike="noStrike">
                <a:solidFill>
                  <a:srgbClr val="191966"/>
                </a:solidFill>
                <a:latin typeface="Arial Black"/>
              </a:rPr>
              <a:t>Relatório de Balanço do Programa de Revisão dos Benefícios por Incapacidade - PRB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28/09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3492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7000"/>
                <a:tab algn="l" pos="10029960"/>
                <a:tab algn="l" pos="10058400"/>
                <a:tab algn="l" pos="10331280"/>
                <a:tab algn="l" pos="107805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m 4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5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 de benefícios por incapacidade mantidos há mais de 2 anos (DIB anterior a 06/01/2015) sem perícia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.706.10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Situação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Gráfico 1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0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 de benefícios por incapacidade mantidos há mais de 2 anos (DIB anterior a 06/01/2015) sem perícia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.535.07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Situação após conversão em 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Gráfico 6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5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4"/>
          <p:cNvSpPr/>
          <p:nvPr/>
        </p:nvSpPr>
        <p:spPr>
          <a:xfrm>
            <a:off x="1046160" y="1830240"/>
            <a:ext cx="6923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5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ram enviada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457.66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cartas de convocação aos beneficiários, s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Cartas Envi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áfico 6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0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ram realizad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28.296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perícias, das qua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2.807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foram em 2016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05.489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em 201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Perícias Realiz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Gráfico 6" descr=""/>
          <p:cNvPicPr/>
          <p:nvPr/>
        </p:nvPicPr>
        <p:blipFill>
          <a:blip r:embed="rId3"/>
          <a:stretch/>
        </p:blipFill>
        <p:spPr>
          <a:xfrm>
            <a:off x="452520" y="2924280"/>
            <a:ext cx="8238960" cy="343692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1"/>
          <p:cNvSpPr/>
          <p:nvPr/>
        </p:nvSpPr>
        <p:spPr>
          <a:xfrm>
            <a:off x="6373800" y="3305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ixaDeTexto 4"/>
          <p:cNvSpPr/>
          <p:nvPr/>
        </p:nvSpPr>
        <p:spPr>
          <a:xfrm>
            <a:off x="4067280" y="3726000"/>
            <a:ext cx="64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10"/>
          <p:cNvSpPr/>
          <p:nvPr/>
        </p:nvSpPr>
        <p:spPr>
          <a:xfrm>
            <a:off x="3687840" y="4208400"/>
            <a:ext cx="64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11"/>
          <p:cNvSpPr/>
          <p:nvPr/>
        </p:nvSpPr>
        <p:spPr>
          <a:xfrm>
            <a:off x="3419640" y="463068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12"/>
          <p:cNvSpPr/>
          <p:nvPr/>
        </p:nvSpPr>
        <p:spPr>
          <a:xfrm>
            <a:off x="3403440" y="514656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13"/>
          <p:cNvSpPr/>
          <p:nvPr/>
        </p:nvSpPr>
        <p:spPr>
          <a:xfrm>
            <a:off x="3440160" y="564840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5"/>
          <p:cNvSpPr/>
          <p:nvPr/>
        </p:nvSpPr>
        <p:spPr>
          <a:xfrm>
            <a:off x="2627280" y="6021360"/>
            <a:ext cx="4321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ângulo 15"/>
          <p:cNvSpPr/>
          <p:nvPr/>
        </p:nvSpPr>
        <p:spPr>
          <a:xfrm>
            <a:off x="6775560" y="3073320"/>
            <a:ext cx="20034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3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4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ram cessad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02.83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benefícios, dos quai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82.52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foram por conclusão pericial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20.30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ão compareceram à perícia méd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Benefícios cess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Gráfico 7" descr=""/>
          <p:cNvPicPr/>
          <p:nvPr/>
        </p:nvPicPr>
        <p:blipFill>
          <a:blip r:embed="rId3"/>
          <a:stretch/>
        </p:blipFill>
        <p:spPr>
          <a:xfrm>
            <a:off x="452520" y="3522600"/>
            <a:ext cx="82389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611280" y="1830240"/>
            <a:ext cx="779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conomia anual estimada Bras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2.993.509.055,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1840"/>
                <a:tab algn="l" pos="2540160"/>
                <a:tab algn="l" pos="3035160"/>
                <a:tab algn="l" pos="3543480"/>
                <a:tab algn="l" pos="4038480"/>
                <a:tab algn="l" pos="4533840"/>
                <a:tab algn="l" pos="5041800"/>
                <a:tab algn="l" pos="553716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1560"/>
                <a:tab algn="l" pos="9029880"/>
                <a:tab algn="l" pos="9524880"/>
                <a:tab algn="l" pos="10020240"/>
                <a:tab algn="l" pos="10032840"/>
                <a:tab algn="l" pos="10058400"/>
              </a:tabLst>
            </a:pPr>
            <a:r>
              <a:rPr b="0" lang="pt-BR" sz="2000" spc="-1" strike="noStrike">
                <a:solidFill>
                  <a:srgbClr val="191966"/>
                </a:solidFill>
                <a:latin typeface="Arial"/>
                <a:ea typeface="Arial"/>
              </a:rPr>
              <a:t>Detalh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17"/>
          <p:cNvSpPr/>
          <p:nvPr/>
        </p:nvSpPr>
        <p:spPr>
          <a:xfrm>
            <a:off x="71280" y="766800"/>
            <a:ext cx="90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66"/>
                </a:solidFill>
                <a:latin typeface="Arial Black"/>
                <a:ea typeface="Arial"/>
              </a:rPr>
              <a:t>Economia Esti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03200" y="3645000"/>
          <a:ext cx="8345520" cy="2736720"/>
        </p:xfrm>
        <a:graphic>
          <a:graphicData uri="http://schemas.openxmlformats.org/drawingml/2006/table">
            <a:tbl>
              <a:tblPr/>
              <a:tblGrid>
                <a:gridCol w="3513240"/>
                <a:gridCol w="1404720"/>
                <a:gridCol w="1711440"/>
                <a:gridCol w="1716120"/>
              </a:tblGrid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TOTAL (Até 28/09/2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º de Benefí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/ Mê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/ 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por não comparec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28.851.984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75.075.79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na realização da perí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.8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234.185.063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.044.405.81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sados Futura (média 90 di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25.188.646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27.452.398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uxílio-Acid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1.417.447,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8.426.817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pos. por Invalid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R$     57.075.047,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741.975.618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ão em Apos. por Invalidez + 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R$       2.298.165,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9.876.151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bilitação Profiss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                           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IA ESTIMADA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  230.269.927,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.993.509.055,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 PERÍCIAS REALIZA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.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3" descr="topo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83" name="Imagem 4" descr="roda1.jpg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95280" y="1117440"/>
            <a:ext cx="85726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Calibri"/>
                <a:ea typeface="Arial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  <a:ea typeface="Arial"/>
              </a:rPr>
              <a:t>EQUIPE PRB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  <a:ea typeface="Arial"/>
              </a:rPr>
              <a:t>DIR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INSS</cp:lastModifiedBy>
  <dcterms:modified xsi:type="dcterms:W3CDTF">2017-09-28T13:25:46Z</dcterms:modified>
  <cp:revision>12</cp:revision>
  <dc:subject/>
  <dc:title>Slide 1</dc:title>
</cp:coreProperties>
</file>